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3390"/>
        <c:axId val="30240227"/>
      </c:barChart>
      <c:catAx>
        <c:axId val="4063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40227"/>
        <c:crosses val="autoZero"/>
        <c:auto val="1"/>
        <c:lblAlgn val="ctr"/>
        <c:lblOffset val="100"/>
        <c:noMultiLvlLbl val="0"/>
      </c:catAx>
      <c:valAx>
        <c:axId val="30240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3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5D6-587B-4CA8-9DFD-08883DAA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274-C586-4F48-BD85-93CBCD89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D3C-761F-47DD-9949-CC51CD57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F42-D08C-495D-A991-7B0DB3DB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719-B3A2-47DF-B431-1C9F80A1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332-C30C-40B5-A007-688F9334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840-0A91-4A85-8570-1133E283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E09-54B8-42FA-95F8-BA580FC7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2A9-31CB-428A-B504-FB36B8B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81C-4534-4A60-84B7-DEA7AD35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386-DC57-4B6D-B1B6-1AA91583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54A-DB33-4803-BEA4-8F01F29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6235C-796B-475D-9212-239E5E8A90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